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3BA3-914F-42A0-9D02-4D3F98E3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BFE9-5D8E-418A-B551-820F7658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F820-9AB0-4076-87C1-D555A65C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6CE8-B1DA-40B3-A1FD-4F4BA1BA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DA88-13A0-479B-9726-8488BE1F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716F-6A67-499D-A6F3-B0566F01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BE69-1AD1-402B-B7CE-35C7B68B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5299-4031-4305-AB8D-8EE22B91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ECD3-B2ED-4F85-B9BE-E7B24FDD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14CC-6DAB-4907-94C4-FA3ACF5F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2CD4-BB73-424E-BAAA-80F1D630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0DB6-7194-4713-94F1-A14C3D0A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C40E-DE4B-48AE-895A-DD15CB10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E805-F33D-42C2-8E35-5F41AB0D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D54B-3F29-45C1-8234-6777A65D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2068-289D-482B-9E90-8F93F876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6854-7A7C-4CF8-A765-C016FCF9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C7D0-4FD7-442A-A2FB-CCC7C426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9BAB-C258-42A5-BD6C-D303BC6A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DC58-A982-4B16-BCCA-1B1191D3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3C4E-36E6-47CD-9D03-77114781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863A-D9EE-4716-9FC8-07405DD0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7CD5-D079-48AD-9693-ADFEEAF1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4D31-7F65-478D-AB29-A5726F10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128D-575B-491B-BB11-7A8C902D8F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5E40-3464-420F-8B6B-52D5F7B45D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Go Tell The Good News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art 2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rter 12, Lesson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ary of 1 Corinthians 8-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s 143-1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6056-1630-4CC4-9166-2EBB63450282}" type="slidenum">
              <a:t>1</a:t>
            </a:fld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different gifts, but the same Spir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different activities, but the same God who works all in 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gifts are given individually by the Spirit for the profit of 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d has set function and abilities of different kinds in the church and they are not in competition with each 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9207-C22C-4811-BA56-4A1185034250}" type="slidenum">
              <a:t>10</a:t>
            </a:fld>
          </a:p>
        </p:txBody>
      </p:sp>
    </p:spTree>
  </p:cSld>
  <p:transition>
    <p:comb dir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one Spirit we were all baptized into one body, but the body is not one member but m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nestly desire the best gifts, yet love is a more excellent 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ever gift we might have, even if we give our bodies to be burned and don’t have love, we are not profi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ve never fails, spiritual gifts will c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26EA-E056-4FDD-B828-569A08B086FF}" type="slidenum">
              <a:t>11</a:t>
            </a:fld>
          </a:p>
        </p:txBody>
      </p:sp>
    </p:spTree>
  </p:cSld>
  <p:transition>
    <p:comb dir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at which is perfect is come, then that which is in part will be done a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will abide faith, hope and love, but the greatest of these is l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k to edify, to teach by your g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orderly, God is not the source of con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 the women be silent (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ot taking a public ro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) in the assemb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F902-9D20-40B4-B922-C69BA2DA7719}" type="slidenum">
              <a:t>12</a:t>
            </a:fld>
          </a:p>
        </p:txBody>
      </p:sp>
    </p:spTree>
  </p:cSld>
  <p:transition>
    <p:comb dir="ver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teach there is no resu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re is no resurrection from the dead then Christ is not ri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Christ is not risen, then preaching is vain and faith is vain and all are still in s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ist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isen and has become the firstfruits of those who have d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ist will reign until all enemies are destroyed and the last enemy destroyed is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C4FE-9C50-47CC-BEE6-9B8838DA001C}" type="slidenum">
              <a:t>13</a:t>
            </a:fld>
          </a:p>
        </p:txBody>
      </p:sp>
    </p:spTree>
  </p:cSld>
  <p:transition>
    <p:comb dir="vert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cerning the collection for the sai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first day of the week let each one of you lay something a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 as you have been prospe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al exhor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ch, stand fast in the faith, be brave, be stro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 all that you do be done with lo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F114-5D38-44D1-B9DB-D255BCDE50E1}" type="slidenum">
              <a:t>14</a:t>
            </a:fld>
          </a:p>
        </p:txBody>
      </p:sp>
    </p:spTree>
  </p:cSld>
  <p:transition>
    <p:comb dir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9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2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5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0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3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6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76B6-9422-4BE6-AA3B-21791D94F4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piritual Rights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8:1-11:1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rning things offered to idol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have knowledge but it can puff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ve edifies and seeks to do what is good for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idol is a god, it is nothing and there is no other God but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t sacrificed to idols is not contamin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what about the weak broth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773C-0FFF-4E15-B800-CB1609F8F047}" type="slidenum">
              <a:t>3</a:t>
            </a:fld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piritual Rights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8:1-11:1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the right to eat meat sacrificed to idols cause another to defile his conscienc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ware lest our liberty cause a weak brother to stum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states, “if food makes my brother stumble, I will never again eat meat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said that he had “rights”, but he hadn’t used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sked, am I not an apostle? Am I not free? Are you not my work in the Lord? Do we have no right to eat and drin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78B1-9093-44D1-8FD5-2E2FFD4BD743}" type="slidenum">
              <a:t>4</a:t>
            </a:fld>
          </a:p>
        </p:txBody>
      </p:sp>
    </p:spTree>
  </p:cSld>
  <p:transition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piritual Rights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8:1-11:1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had lived in whatever style necessary in order to convert men to chr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ember your goal and strive for a cr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strive for a perishable crown, but we for an imperishable 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: “I discipline my body and bring it into subjection lest I myself should become disqualified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Jewish fathers were baptized into Moses, all ate the same spiritual food and drank the same spiritual drink ,yet most of them displeased G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example is our w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682A-BBA0-4077-87C6-B58380AC9FB6}" type="slidenum">
              <a:t>5</a:t>
            </a:fld>
          </a:p>
        </p:txBody>
      </p:sp>
    </p:spTree>
  </p:cSld>
  <p:transition>
    <p:zoom dir="in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piritual Rights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8:1-11:1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become idolaters, do not commit sexual immorality, do not tempt Chr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 him who thinks he stands take heed lest he f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e idolatry and judge for yourselves, the cup of blessing , is it not the communion of the blood of Christ? The bread which we break, is it not the communion of the body of Chri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not be joined to the Lord and to the Devil at the sam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0471-96DD-49DF-958E-31DE5C1D28F5}" type="slidenum">
              <a:t>6</a:t>
            </a:fld>
          </a:p>
        </p:txBody>
      </p:sp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piritual Rights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8:1-11:1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hings that are lawful may not be helpful or edify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offered meat without comment, eat it ,but if told it was offered to idols, don’t eat it for the sake of the one who told you and for conscience’ sa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itate Paul just as he also imitated Chr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49B0-D349-4FCF-84F3-399927151B6C}" type="slidenum">
              <a:t>7</a:t>
            </a:fld>
          </a:p>
        </p:txBody>
      </p:sp>
    </p:spTree>
  </p:cSld>
  <p:transition>
    <p:checker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ad cove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ist is head over man and man is head over wo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 man who prays or prophesies with his head covered dishonors his h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 woman who prays or prophesies with her head uncovered dishonors her h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 is the image and glory of God, but woman is the glory of 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A9C0-A288-4A3A-95D7-F63260803269}" type="slidenum">
              <a:t>8</a:t>
            </a:fld>
          </a:p>
        </p:txBody>
      </p:sp>
    </p:spTree>
  </p:cSld>
  <p:transition>
    <p:checker dir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ake of the Lord’s supper with proper rev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make it a common me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are hungry, eat and drink in your own hous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partaking of the Lord’s supper, wait for one an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read represents Christ’s body and the cup represents Christ’s bl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must eat and drink in a worthy manner discerning the Lord’s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43C1-8031-4064-B7C4-1191EF8B683A}" type="slidenum">
              <a:t>9</a:t>
            </a:fld>
          </a:p>
        </p:txBody>
      </p:sp>
    </p:spTree>
  </p:cSld>
  <p:transition>
    <p:comb dir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05:56:07Z</dcterms:created>
  <dc:creator>billy lauderdale</dc:creator>
  <dc:description/>
  <dc:language>en-US</dc:language>
  <cp:lastModifiedBy>billy lauderdale</cp:lastModifiedBy>
  <dcterms:modified xsi:type="dcterms:W3CDTF">2006-12-21T22:05:11Z</dcterms:modified>
  <cp:revision>31</cp:revision>
  <dc:subject/>
  <dc:title>Go Tell The Good News Part 2</dc:title>
</cp:coreProperties>
</file>